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5.pct" ContentType="image/x-pict"/>
  <Override PartName="/ppt/media/image6.jpeg" ContentType="image/jpeg"/>
  <Override PartName="/ppt/media/image14.pct" ContentType="image/x-pict"/>
  <Override PartName="/ppt/media/image13.png" ContentType="image/png"/>
  <Override PartName="/ppt/media/image36.pct" ContentType="image/x-pict"/>
  <Override PartName="/ppt/media/image16.pct" ContentType="image/x-pict"/>
  <Override PartName="/ppt/media/image10.jpeg" ContentType="image/jpeg"/>
  <Override PartName="/ppt/media/image12.gif" ContentType="image/gif"/>
  <Override PartName="/ppt/media/image9.pct" ContentType="image/x-pict"/>
  <Override PartName="/ppt/media/image38.pct" ContentType="image/x-pict"/>
  <Override PartName="/ppt/media/image11.gif" ContentType="image/gif"/>
  <Override PartName="/ppt/media/image30.pct" ContentType="image/x-pict"/>
  <Override PartName="/ppt/media/image31.pct" ContentType="image/x-pict"/>
  <Override PartName="/ppt/media/image37.pct" ContentType="image/x-pict"/>
  <Override PartName="/ppt/media/image7.pct" ContentType="image/x-pict"/>
  <Override PartName="/ppt/media/image24.pct" ContentType="image/x-pict"/>
  <Override PartName="/ppt/media/image28.pct" ContentType="image/x-pict"/>
  <Override PartName="/ppt/media/image8.gif" ContentType="image/gif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1.jpeg" ContentType="image/jpeg"/>
  <Override PartName="/ppt/media/image18.pct" ContentType="image/x-pict"/>
  <Override PartName="/ppt/media/image20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C6B-B493-412B-9CEF-7C91D0F2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C14-7303-4E4F-82E7-363B9A44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A0A-EDD5-44F5-82F6-D494EF1D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24A-26CD-403C-87E8-4BF1E8B5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80E-2544-421F-846E-B17A0AB0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550-07A5-4560-A1CD-67D9D8C0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FC6-8D0F-474C-BD75-778741C2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D9D-CC07-47E1-83EB-C69D187F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31C-68C6-4647-8899-9CA342D3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D17-C1AE-471F-B550-BB97A6F7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590-EF88-4B1C-9ED9-946A66AA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A62-EABD-42E4-9C16-BE699E30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65DC-F064-4E91-B909-A6C11FC07F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image" Target="../media/image18.pct"/><Relationship Id="rId4" Type="http://schemas.openxmlformats.org/officeDocument/2006/relationships/image" Target="../media/image19.pct"/><Relationship Id="rId5" Type="http://schemas.openxmlformats.org/officeDocument/2006/relationships/image" Target="../media/image20.pct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image" Target="../media/image24.pct"/><Relationship Id="rId5" Type="http://schemas.openxmlformats.org/officeDocument/2006/relationships/image" Target="../media/image25.pct"/><Relationship Id="rId6" Type="http://schemas.openxmlformats.org/officeDocument/2006/relationships/image" Target="../media/image26.pct"/><Relationship Id="rId7" Type="http://schemas.openxmlformats.org/officeDocument/2006/relationships/image" Target="../media/image27.pct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29.pct"/><Relationship Id="rId3" Type="http://schemas.openxmlformats.org/officeDocument/2006/relationships/image" Target="../media/image30.pct"/><Relationship Id="rId4" Type="http://schemas.openxmlformats.org/officeDocument/2006/relationships/image" Target="../media/image7.pct"/><Relationship Id="rId5" Type="http://schemas.openxmlformats.org/officeDocument/2006/relationships/image" Target="../media/image31.pct"/><Relationship Id="rId6" Type="http://schemas.openxmlformats.org/officeDocument/2006/relationships/image" Target="../media/image32.pct"/><Relationship Id="rId7" Type="http://schemas.openxmlformats.org/officeDocument/2006/relationships/image" Target="../media/image32.pct"/><Relationship Id="rId8" Type="http://schemas.openxmlformats.org/officeDocument/2006/relationships/image" Target="../media/image32.pct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image" Target="../media/image33.pct"/><Relationship Id="rId3" Type="http://schemas.openxmlformats.org/officeDocument/2006/relationships/image" Target="../media/image34.pct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image" Target="../media/image36.pct"/><Relationship Id="rId3" Type="http://schemas.openxmlformats.org/officeDocument/2006/relationships/image" Target="../media/image37.pct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7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Middle School English</a:t>
            </a:r>
            <a:br>
              <a:rPr sz="4400"/>
            </a:b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Curriculum Night 200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Lee Ann Em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Pat C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Anna Ster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Leslie Willi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Margee Dur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Robin Fu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7400" y="5357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2920" y="3809880"/>
            <a:ext cx="1527120" cy="2273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533520"/>
            <a:ext cx="914400" cy="838080"/>
          </a:xfrm>
          <a:prstGeom prst="smileyFace">
            <a:avLst>
              <a:gd name="adj" fmla="val 9282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1981080"/>
            <a:ext cx="624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bd00"/>
                </a:solidFill>
                <a:latin typeface="Arial"/>
              </a:rPr>
              <a:t>WELCOME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74674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       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Ideas &amp; Conten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The ideas are the heart of the message, the content of the piece…all the details that enrich and develop the them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30304"/>
                </a:solidFill>
                <a:latin typeface="Arial"/>
              </a:rPr>
              <a:t>--Northwest Regional Educational Labora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1570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8398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Ideas &amp; Conten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A writer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0304"/>
                </a:solidFill>
                <a:latin typeface="Arial"/>
              </a:rPr>
              <a:t>~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Narrow the topic to something specifi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a fresh, original perspectiv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When possible, write from experie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important, interesting detail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(not just common knowledge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569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Organiz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30304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30304"/>
                </a:solidFill>
                <a:latin typeface="Arial"/>
              </a:rPr>
              <a:t>Organization is the internal structure of a piece of writing, the thread of central meaning, the patter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304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304"/>
                </a:solidFill>
                <a:latin typeface="Arial"/>
              </a:rPr>
              <a:t>--Northwest Regional Educational Laboratory</a:t>
            </a:r>
            <a:r>
              <a:rPr b="0" lang="en-US" sz="2100" spc="-1" strike="noStrike">
                <a:solidFill>
                  <a:srgbClr val="030304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257120" cy="1676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15080" y="4495680"/>
            <a:ext cx="17431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Organiz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8960" y="21333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A writer shoul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30304"/>
                </a:solidFill>
                <a:latin typeface="Arial"/>
              </a:rPr>
              <a:t>~ use an inviting lead that hooks the read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30304"/>
                </a:solidFill>
                <a:latin typeface="Arial"/>
              </a:rPr>
              <a:t>~ use logical and effective order, structure, &amp; sequen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30304"/>
                </a:solidFill>
                <a:latin typeface="Arial"/>
              </a:rPr>
              <a:t>~ use smooth transitions to emphasize main idea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30304"/>
                </a:solidFill>
                <a:latin typeface="Arial"/>
              </a:rPr>
              <a:t>~ place supporting details where they are most appropria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30304"/>
                </a:solidFill>
                <a:latin typeface="Arial"/>
              </a:rPr>
              <a:t>~ use a conclusion that gives the reader a sense of resolution (clinche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257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488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Word Choi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Strong word choice clarifies and expands       ideas…moves and enlightens the read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30304"/>
                </a:solidFill>
                <a:latin typeface="Arial"/>
              </a:rPr>
              <a:t>       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30304"/>
                </a:solidFill>
                <a:latin typeface="Arial"/>
              </a:rPr>
              <a:t>--Northwest Regional Educational Laboratory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  “</a:t>
            </a: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Don’t tell me the moon is shining; show me the glint of light on broken glas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304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30304"/>
                </a:solidFill>
                <a:latin typeface="Arial"/>
              </a:rPr>
              <a:t>--Anton Chekh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20509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488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Word Choi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A writer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words that create a mental picture for the read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powerful action verbs (vivid verb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specific nouns and adjectiv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language that is natural and not overdon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Be concise (tighten sentence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words correctly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Avoid repetition, slang, and cliché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050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Sentence Fluenc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53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30304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30304"/>
                </a:solidFill>
                <a:latin typeface="Arial"/>
              </a:rPr>
              <a:t>Sentence fluency is the rhythm and flow of the languag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30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30304"/>
                </a:solidFill>
                <a:latin typeface="Arial"/>
              </a:rPr>
              <a:t>--Northwest Regional Educational Labora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304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30304"/>
                </a:solidFill>
                <a:latin typeface="Arial"/>
              </a:rPr>
              <a:t>To me the greatest pleasure of writing is not what it’s about, but the music the words make.”</a:t>
            </a: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304"/>
                </a:solidFill>
                <a:latin typeface="Arial"/>
              </a:rPr>
              <a:t>--Truman Capo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4905360" cy="1373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47984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5029200"/>
            <a:ext cx="490536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Sentence Fluenc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A writer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Vary sentence beginning, structure, and length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complete sentence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transitions (internal &amp; external) to promote cade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5029200"/>
            <a:ext cx="490536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790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Voice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It is the heart and soul of the writing, the magic, the wit, the feeling, the life and breath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304"/>
                </a:solidFill>
                <a:latin typeface="Arial"/>
              </a:rPr>
              <a:t>--Northwest Regional Educational Labora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00" y="245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18860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790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Voice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A writer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Write honestly and from the hear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Interact with the read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* without using YO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language that brings the topic to lif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Care about topi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expression to voice personality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8856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lling Be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Author visi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Summer Read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ewspap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Literary magaz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6095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249"/>
              </a:spcBef>
              <a:buClr>
                <a:srgbClr val="3b7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7c17"/>
                </a:solidFill>
                <a:latin typeface="Arial"/>
              </a:rPr>
              <a:t>jenlars.mu.nu/ spelling%20bee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51055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42000" y="1143000"/>
            <a:ext cx="4017960" cy="5029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609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body Reads” Assemb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438280" y="5105520"/>
            <a:ext cx="1320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Conventions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A writer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Turn in a clean, edited, and polished final draf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Reinforce the organization with good paragraph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correct punctuation, spelling, and gramma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5105520"/>
            <a:ext cx="884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434"/>
                </a:solidFill>
                <a:latin typeface="Arial"/>
              </a:rPr>
              <a:t>? ! “” . ? ! “” . ? ! “” .,,,,,,,,,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Present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A writer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Turn in a clean, edited, and polished final draf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Format writing according to  teacher and/or MLA   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guidelin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2819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0"/>
          <a:ext cx="81532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153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Ap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Writing Assessment Progra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by Educational Record Bur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writing  1-6 using the 6 tra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6- narr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7-8 exposi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6-7 test in Febru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8 September and Apr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PP-writing practice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Grade Expec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: Write a three paragraph essay w/ thesis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: Know the elements of a story and details of a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: Know context, synonyms/antonyms,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mar: Apply rules of usage and mechanics to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b1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Grade Expec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e ideas clearly and effectiv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proficiency in using the traits of good writing—ideas, organization, voice, sentence fluency, word choice, and co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 stories, novels, and poetry in terms of basic literary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e more complex and abstract ideas while students learn to express and defend their own thou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ivate an appreciation for classic and contemporary works through both whole class and independent re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y more complex grammatical concepts to enhance wr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 range of word knowledge and develop more precision in written and oral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h Grade Expec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critically and share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 three-five page essay w/ thesis stat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 literary analysis and relate literature to their own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and use new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rules of usage and mechanics to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Grade Assess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hour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 of 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choice/short answer vocabul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mar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 compreh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of literature from reading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b1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Grade Assess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(25%): brief written responses, formal essa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(25%): quizzes and tests (including multiple choice, short answer, and essay ques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mar (20%) and Vocabulary (15%): weekly quizzes and unit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ester exam (1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ghth Grade Assess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dg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dget"/>
              </a:rPr>
              <a:t>Writing Assignments – 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dg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dget"/>
              </a:rPr>
              <a:t>Grammar –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dg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dget"/>
              </a:rPr>
              <a:t>Literature –2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dg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dget"/>
              </a:rPr>
              <a:t>Vocabulary – 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dg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2 hour Semester Exam  - 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Includes at least one e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 for Ton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ilosophy / Essentia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ross the Curriculum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, grammar,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040200"/>
            <a:ext cx="3429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6th grade-b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b13a"/>
                </a:solidFill>
                <a:latin typeface="Arial"/>
              </a:rPr>
              <a:t>7th grade-gr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d00"/>
                </a:solidFill>
                <a:latin typeface="Arial"/>
              </a:rPr>
              <a:t>8th grade- o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Grade Lit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105200" cy="1574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238880" y="1523880"/>
            <a:ext cx="990720" cy="1638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62120" y="4419720"/>
            <a:ext cx="1003320" cy="1638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858000" y="4572000"/>
            <a:ext cx="110484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257800" y="1523880"/>
            <a:ext cx="952560" cy="1676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65400" y="1914480"/>
            <a:ext cx="323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Story Collection including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iamond Necklace” and “After Twenty Year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28960" y="3581280"/>
            <a:ext cx="34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etry Collection includ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e cummings, Longfellow, Fr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3440" y="5213520"/>
            <a:ext cx="29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drama includ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d Serling and A.A. Mi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b1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Grade Lit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er Reading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a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m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ous poems and short s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l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Outsid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Hinton - Bo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targir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Spinelli - Gir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Adventures of Tom Sawy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wain - Bo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ittle Wom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lcott - Gir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Diary of Anne Frank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ama -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roes, Gods, and Monst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vslin -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reading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lf-se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91520" y="1752480"/>
            <a:ext cx="1076040" cy="1447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873920" y="3505320"/>
            <a:ext cx="112716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781680" y="3505320"/>
            <a:ext cx="979560" cy="1600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172200" y="1752480"/>
            <a:ext cx="87624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0" y="41148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7315200" y="5181480"/>
            <a:ext cx="887400" cy="1447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228600" y="304920"/>
            <a:ext cx="1012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h Grade Lit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952560" cy="1650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486400" y="3886200"/>
            <a:ext cx="892080" cy="1295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934320" y="1981080"/>
            <a:ext cx="1082520" cy="144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752480" y="1828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905120" y="3352680"/>
            <a:ext cx="1141200" cy="1447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6934320" y="38862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5257800" y="1981080"/>
            <a:ext cx="1306440" cy="1447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304920" y="380880"/>
            <a:ext cx="1062000" cy="1219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45000" y="5181480"/>
            <a:ext cx="34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nderel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ck and the Beanstalk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4960" y="14191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ies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h Grade Lit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2514600"/>
            <a:ext cx="70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eckled Band” by Sir Conan Do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nsic science/ Mystery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5397480"/>
            <a:ext cx="1460520" cy="1460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9480" y="3048120"/>
            <a:ext cx="812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spiration of  Mr. Budd” by Dorothy S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se of the Perfect Maid” by Agatha Chris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ve mys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sive closing argument for civ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391520" y="4267080"/>
            <a:ext cx="1384200" cy="1575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543800" y="1498680"/>
            <a:ext cx="1295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h Grade Lit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1904760" cy="2057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657600" y="2133720"/>
            <a:ext cx="1371600" cy="2031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4572000"/>
            <a:ext cx="95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King Arthur and His Knight of the Round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rano de Bergerac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ocket Bo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Grade Wri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ation and unity of a para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strong topic/closing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descriptive, narrative, persuasive, expository and creative pie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the writing process: pre-write, write, conference, revise, 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b1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Grade Wri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riting Process and Six Tra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Wr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try Wr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paragraph Ess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erar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ua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rr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sitory - research-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azine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h Grade Wri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and friendly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/contr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ua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ry analy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r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i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Grade Gramm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 of parts of spe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of usage in writ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 - subject/verb agreement, pronoun referenc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 of mechanics in writing: ex. - capitalization, punctuati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b1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Grade Gramm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ht Parts of Spe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s of a Sen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tence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cs and Proofreading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dget"/>
              </a:rPr>
              <a:t>Middle School Literacy Philoso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In the transitional years, the middle school English class is a safe place to build a literate community which emphasizes the following princi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1. Reading, writing and discussion are tools for thinking and learn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2. Reading and writing are inextricably bound and should be taught in 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tand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3. Craft and convention must be deliberately tau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4. Critical thinking skills and analysis should be developed in all areas 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of litera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dget"/>
              </a:rPr>
              <a:t>Adopted May 3,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dget"/>
              </a:rPr>
              <a:t>Marie Lambremont, Debbie Franks, Pat Costen, Robin Fuller, Cynthia Mot, and Tony Pat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dget"/>
              </a:rPr>
              <a:t>Affirmed June 20,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dget"/>
              </a:rPr>
              <a:t>Lee Ann Emerson, Pat Coston, Leslie Williams, Anna Sterne, Robin Fuller, Margee Dur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h Grade Gramm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of spe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r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ence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nct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dvanced English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complete the 8th grade English curriculum with the addition of an independent project to be completed in the sp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grammar will be taught in the Fall Semester- we will move quickly students need to  have strong grammar  and writing and be willing to put in extra time to review nigh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is a good candid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rong 6th-7th grade English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88 or greater aver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one who is self-motivated and self-disciplined (there will be lots of work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one who “Goes above and beyo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one who would like to study a topic in dep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ependent Pro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themes from our 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nor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tertainm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orytell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moi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s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gend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au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ne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ama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u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iry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ependent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portfolio of research- document what you read/th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research will be directed by teacher, some by stu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“product” based on your learning (a piece of writing, art project, technology project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portfolio and project-this will replace  the spring ex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Grade Special Pro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 Cover for summer reading no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side Reading projects focusing on elements of a no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club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etry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based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b1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Grad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al Pro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-long Collaborative Magazin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Voice B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t and group literature-based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matic monolo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character portr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ology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h Grad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al Pro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ytale News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ing of the Mi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/civics interdisciplinary-foren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elds and Medieval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interdisciplinary- r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bout Me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 for attending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??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e Ann Emer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 Cos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a Ster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lie Willi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ee Dur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in Fu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eshow will be pos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MS Resourc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086600" y="5181480"/>
            <a:ext cx="16509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Gadget"/>
              </a:rPr>
              <a:t>Middle School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Gadget"/>
              </a:rPr>
              <a:t> English Department Philoso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dg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dget"/>
              </a:rPr>
              <a:t>The mission of the Lovett Middle School English Department is to instill in our students a love of language in both its written and spoken form, thereby stimulating an appreciation and understanding of literature and the intricacies of our language through reading, writing and oral discou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30304"/>
                </a:solidFill>
                <a:uFillTx/>
                <a:latin typeface="Arial"/>
              </a:rPr>
              <a:t>Middle School English Essential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Times New Roman"/>
              </a:rPr>
              <a:t>How does our approach to the written word influence our understanding of the writer’s mess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Times New Roman"/>
              </a:rPr>
              <a:t>How does literature reflect lif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Times New Roman"/>
              </a:rPr>
              <a:t>How can we effectively communicate our ide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Times New Roman"/>
              </a:rPr>
              <a:t>How can knowledge of grammar and the study of words enhance reading and communicatio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Times New Roman"/>
              </a:rPr>
              <a:t>How do research, study skills and learning strategies help us lear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304"/>
                </a:solidFill>
                <a:latin typeface="Arial"/>
              </a:rPr>
              <a:t>Middle School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Greek and Latin Ro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Prefixes-Suffi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Synonym- Antony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Ana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Words in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Reading compreh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Standardized test p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Study-Bud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29536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81480" y="57150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30304"/>
                </a:solidFill>
                <a:uFillTx/>
                <a:latin typeface="Arial"/>
              </a:rPr>
              <a:t>Vocabulary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304"/>
                </a:solidFill>
                <a:latin typeface="Arial"/>
              </a:rPr>
              <a:t>Levels C,D,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304"/>
                </a:solidFill>
                <a:latin typeface="Arial"/>
              </a:rPr>
              <a:t>Middle School Gramm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57150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30304"/>
                </a:solidFill>
                <a:uFillTx/>
                <a:latin typeface="Arial"/>
              </a:rPr>
              <a:t>Elements of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30304"/>
                </a:solidFill>
                <a:uFillTx/>
                <a:latin typeface="Arial"/>
              </a:rPr>
              <a:t>Grammar, Usage, Mechanics</a:t>
            </a: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 (G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505320" y="4648320"/>
            <a:ext cx="1371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5736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30304"/>
                </a:solidFill>
                <a:latin typeface="Arial"/>
              </a:rPr>
              <a:t>The 6 Traits of Writi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30304"/>
                </a:solidFill>
                <a:latin typeface="Arial"/>
              </a:rPr>
              <a:t>*Idea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30304"/>
                </a:solidFill>
                <a:latin typeface="Arial"/>
              </a:rPr>
              <a:t>*Organiz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30304"/>
                </a:solidFill>
                <a:latin typeface="Arial"/>
              </a:rPr>
              <a:t>*Word Choi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30304"/>
                </a:solidFill>
                <a:latin typeface="Arial"/>
              </a:rPr>
              <a:t>*Sentence Fluenc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30304"/>
                </a:solidFill>
                <a:latin typeface="Arial"/>
              </a:rPr>
              <a:t>*Voi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30304"/>
                </a:solidFill>
                <a:latin typeface="Arial"/>
              </a:rPr>
              <a:t>*Conven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30304"/>
                </a:solidFill>
                <a:latin typeface="Arial"/>
              </a:rPr>
              <a:t>+ 1 *Present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81360" y="330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2201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2:31:40Z</dcterms:created>
  <dc:creator>Educational Technology</dc:creator>
  <dc:description/>
  <dc:language>en-US</dc:language>
  <cp:lastModifiedBy>Educational Technology</cp:lastModifiedBy>
  <cp:lastPrinted>2008-10-29T20:23:45Z</cp:lastPrinted>
  <dcterms:modified xsi:type="dcterms:W3CDTF">2008-10-29T20:29:44Z</dcterms:modified>
  <cp:revision>33</cp:revision>
  <dc:subject/>
  <dc:title>Middle School English</dc:title>
</cp:coreProperties>
</file>